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B6B4-97AC-4094-A195-9E6D144F5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778F-D60A-41A4-B6DD-B68C4279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64F9-BEB5-4F02-801F-63E509A3F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5709-2B48-43DD-B3A8-4F6C803BB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65EC-9B3B-442E-BEE9-46EF065FA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5AD8-A32D-4BC0-BDBF-90F82FC3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C9A6-D987-4982-B8B8-7493D15D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CA4C-5817-4CB4-AA08-1D3F8073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0299-19DA-4525-9908-4F2BB957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BBC4-880C-4F0B-8130-FA4A0663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B703-4A89-4639-A23C-3AEC2171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D801-71BD-4440-8877-FBCA9102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CE26-9AF0-440B-BA9A-5FD7E10A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807E-8B54-4E7E-8DCD-F4BAE247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6717-B954-4B8A-AD27-229E01CE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A0D5-BE93-4410-AC2D-E4823D302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D314-DBA2-4C52-A6F4-79A101634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9974-64CF-4B71-9CA0-D157FCF2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E09C-4977-478A-93B5-10A2FB37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63FB-ADFE-466B-B094-51C9264B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76AE-BF3C-48A9-BCCC-4686075D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A386-5146-4316-97AD-70E68B4D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C8E1-4FEC-46AF-A3E9-0C8F9383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5A52-B585-4863-AF3E-D179DB33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AA8A-CAAC-4087-8F02-E62DB67C2581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346A-63CE-4976-AB98-E9028ECDE04F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atto.buffalo.edu/registered/ATBasics/Foundation/Laws/atlegislation.php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1797120"/>
            <a:ext cx="7772400" cy="14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ssistive Technology </a:t>
            </a:r>
            <a:br>
              <a:rPr sz="4400"/>
            </a:b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ools That Benefit ALL Learner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-360" y="43430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By Lourdes Day, FDLRS Technology Specialist and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Local Assistive Technology Team (LAT)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762120" y="5867280"/>
            <a:ext cx="8001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lorida Diagnostic and Learning Resources System (FDLRS) is funded through IDEA, Part B and State General Revenue Funds to provide support services to Florida’s Exceptional Student Education Program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  <a:ea typeface="Arial"/>
              </a:rPr>
              <a:t>AT Referral for ESE Students in Polk or Hardee 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-38844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A student may be referred by a teacher, therapist, or parent</a:t>
            </a:r>
            <a:br>
              <a:rPr sz="2800"/>
            </a:b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88440" indent="-38844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The school support team ie… teacher, SLP, OT or PT determines FIRST if the need can be met at the school level.</a:t>
            </a:r>
            <a:br>
              <a:rPr sz="2800"/>
            </a:b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88440" indent="-38844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A referral is submitted to the Local Assistive Technology Team (LATS)</a:t>
            </a:r>
            <a:br>
              <a:rPr sz="2800"/>
            </a:b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88440" indent="-38844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The LATS will review the case and either request further information from the school or set up an appointment to evaluate the student.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915400" cy="14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  <a:ea typeface="Arial"/>
              </a:rPr>
              <a:t>The Local Assistive Technology Team (LATS)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Polk County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Joanne Stidham- Speech Language Pathologist (LEAD)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Lorrie Prince –Speech Language Diagnostician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Judy Sanders- Occupational Therapist –ESE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Lourdes Day- Technology Specialist-FDLRS Polk/Hardee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9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Hardee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Teresa Hall- District Contact (Lead)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Shannon Robertson-Teacher of the Visually Impaired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Colleen Carey- Occupational Therapist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Nancy Parker- Regional LATS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5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17680" y="721800"/>
            <a:ext cx="859608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Contacting the LAT tea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The LAT team will evaluate, consult and train school staff. Contact them at :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Polk ESE 863-534-0930 (Joanne Stidham)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OR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FDLRS 863-647-4258 (Lourdes Day)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OR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Hardee ESE 863-773-2600 (Teresa Hall)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28" name="Picture 4" descr="bd04921_"/>
          <p:cNvPicPr/>
          <p:nvPr/>
        </p:nvPicPr>
        <p:blipFill>
          <a:blip r:embed="rId1"/>
          <a:stretch/>
        </p:blipFill>
        <p:spPr>
          <a:xfrm>
            <a:off x="7315200" y="152280"/>
            <a:ext cx="1320840" cy="1765440"/>
          </a:xfrm>
          <a:prstGeom prst="rect">
            <a:avLst/>
          </a:prstGeom>
          <a:ln w="0">
            <a:noFill/>
          </a:ln>
        </p:spPr>
      </p:pic>
      <p:sp>
        <p:nvSpPr>
          <p:cNvPr id="129" name="Footer Placeholder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9525240" cy="140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a3d7a"/>
                </a:solidFill>
                <a:latin typeface="Arial"/>
                <a:ea typeface="Arial"/>
              </a:rPr>
              <a:t>Assistive Technology Consideration</a:t>
            </a:r>
            <a:endParaRPr b="0" lang="en-US" sz="4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Ask the right questions?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What specifically does the student need to do?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What specific </a:t>
            </a:r>
            <a:r>
              <a:rPr b="1" lang="en-US" sz="3200" spc="-1" strike="noStrike" u="sng">
                <a:solidFill>
                  <a:srgbClr val="080808"/>
                </a:solidFill>
                <a:uFillTx/>
                <a:latin typeface="Arial"/>
                <a:ea typeface="Arial"/>
              </a:rPr>
              <a:t>IEP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 goal must the child meet?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What AT is the student currently using?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What accommodations or modification strategies have been tried?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32" name="Picture 4" descr="bd00028_"/>
          <p:cNvPicPr/>
          <p:nvPr/>
        </p:nvPicPr>
        <p:blipFill>
          <a:blip r:embed="rId1"/>
          <a:stretch/>
        </p:blipFill>
        <p:spPr>
          <a:xfrm>
            <a:off x="7848720" y="1447920"/>
            <a:ext cx="1062000" cy="1041120"/>
          </a:xfrm>
          <a:prstGeom prst="rect">
            <a:avLst/>
          </a:prstGeom>
          <a:ln w="0">
            <a:noFill/>
          </a:ln>
        </p:spPr>
      </p:pic>
      <p:sp>
        <p:nvSpPr>
          <p:cNvPr id="133" name="Footer Placeholder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Accommodation vs. Modific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56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lnSpc>
                <a:spcPct val="90000"/>
              </a:lnSpc>
              <a:spcBef>
                <a:spcPts val="7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  <a:ea typeface="Arial"/>
              </a:rPr>
              <a:t>Accommodation is changing </a:t>
            </a:r>
            <a:r>
              <a:rPr b="1" lang="en-US" sz="3000" spc="-1" strike="noStrike" u="sng">
                <a:solidFill>
                  <a:srgbClr val="080808"/>
                </a:solidFill>
                <a:uFillTx/>
                <a:latin typeface="Arial"/>
                <a:ea typeface="Arial"/>
              </a:rPr>
              <a:t>HOW</a:t>
            </a:r>
            <a:r>
              <a:rPr b="0" lang="en-US" sz="3000" spc="-1" strike="noStrike">
                <a:solidFill>
                  <a:srgbClr val="080808"/>
                </a:solidFill>
                <a:latin typeface="Arial"/>
                <a:ea typeface="Arial"/>
              </a:rPr>
              <a:t> the student is instructed and is assessed</a:t>
            </a:r>
            <a:endParaRPr b="0" lang="en-US" sz="3000" spc="-1" strike="noStrike">
              <a:solidFill>
                <a:srgbClr val="080808"/>
              </a:solidFill>
              <a:latin typeface="Times New Roman"/>
            </a:endParaRPr>
          </a:p>
          <a:p>
            <a:pPr lvl="1" marL="893520" indent="-3960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EX-Setting, time, length of assignment, 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893520" indent="-3960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General diploma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97440" indent="-397440">
              <a:lnSpc>
                <a:spcPct val="90000"/>
              </a:lnSpc>
              <a:spcBef>
                <a:spcPts val="7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  <a:ea typeface="Arial"/>
              </a:rPr>
              <a:t>Modification is changing </a:t>
            </a:r>
            <a:r>
              <a:rPr b="1" lang="en-US" sz="3000" spc="-1" strike="noStrike" u="sng">
                <a:solidFill>
                  <a:srgbClr val="080808"/>
                </a:solidFill>
                <a:uFillTx/>
                <a:latin typeface="Arial"/>
                <a:ea typeface="Arial"/>
              </a:rPr>
              <a:t>WHAT</a:t>
            </a:r>
            <a:r>
              <a:rPr b="0" lang="en-US" sz="3000" spc="-1" strike="noStrike">
                <a:solidFill>
                  <a:srgbClr val="080808"/>
                </a:solidFill>
                <a:latin typeface="Arial"/>
                <a:ea typeface="Arial"/>
              </a:rPr>
              <a:t> the student is expected to learn</a:t>
            </a:r>
            <a:endParaRPr b="0" lang="en-US" sz="3000" spc="-1" strike="noStrike">
              <a:solidFill>
                <a:srgbClr val="080808"/>
              </a:solidFill>
              <a:latin typeface="Times New Roman"/>
            </a:endParaRPr>
          </a:p>
          <a:p>
            <a:pPr lvl="1" marL="893520" indent="-3960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EX-4</a:t>
            </a:r>
            <a:r>
              <a:rPr b="0" lang="en-US" sz="2800" spc="-1" strike="noStrike" baseline="30000">
                <a:solidFill>
                  <a:srgbClr val="080808"/>
                </a:solidFill>
                <a:latin typeface="Arial"/>
                <a:ea typeface="Arial"/>
              </a:rPr>
              <a:t>th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grade math in an Algebra clas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893520" indent="-3960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Special diploma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97440" indent="-3974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Learn more about accommodations strategies, click below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89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http://www.cpt.fsu.edu/ese/in/acom/needs/nslist.htm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l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1973880" y="1219320"/>
            <a:ext cx="481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ood Strategies + AT = Succes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AT Purchase for ESE Studen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The school district is required to provide assistive technology if it is necessary to meet IEP goal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The device may go home if the IEP team determines that it is necessary to receive FAPE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Some students may receive funds from private insurance or Medicaid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These devices are then the property of the family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40" name="Picture 4" descr="bd04896_"/>
          <p:cNvPicPr/>
          <p:nvPr/>
        </p:nvPicPr>
        <p:blipFill>
          <a:blip r:embed="rId1"/>
          <a:stretch/>
        </p:blipFill>
        <p:spPr>
          <a:xfrm>
            <a:off x="4419720" y="5867280"/>
            <a:ext cx="1120680" cy="711360"/>
          </a:xfrm>
          <a:prstGeom prst="rect">
            <a:avLst/>
          </a:prstGeom>
          <a:ln w="0">
            <a:noFill/>
          </a:ln>
        </p:spPr>
      </p:pic>
      <p:sp>
        <p:nvSpPr>
          <p:cNvPr id="141" name="Footer Placeholder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05840"/>
            <a:ext cx="9067680" cy="140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  <a:ea typeface="Arial"/>
              </a:rPr>
              <a:t>AT Acquisition for Non ESE Student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School technology funds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Other school funds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Grants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Community groups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Fund Raiser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44" name="Picture 5" descr="bd18043_"/>
          <p:cNvPicPr/>
          <p:nvPr/>
        </p:nvPicPr>
        <p:blipFill>
          <a:blip r:embed="rId1"/>
          <a:stretch/>
        </p:blipFill>
        <p:spPr>
          <a:xfrm>
            <a:off x="5867280" y="2666880"/>
            <a:ext cx="2586240" cy="3006720"/>
          </a:xfrm>
          <a:prstGeom prst="rect">
            <a:avLst/>
          </a:prstGeom>
          <a:ln w="0">
            <a:noFill/>
          </a:ln>
        </p:spPr>
      </p:pic>
      <p:sp>
        <p:nvSpPr>
          <p:cNvPr id="145" name="Footer Placeholder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Assistive Technology Group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  <a:ea typeface="Arial"/>
              </a:rPr>
              <a:t>Two Major Groups</a:t>
            </a:r>
            <a:endParaRPr b="0" lang="en-US" sz="3000" spc="-1" strike="noStrike">
              <a:solidFill>
                <a:srgbClr val="080808"/>
              </a:solidFill>
              <a:latin typeface="Times New Roman"/>
            </a:endParaRPr>
          </a:p>
          <a:p>
            <a:pPr marL="361080" indent="-361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  <a:ea typeface="Arial"/>
              </a:rPr>
              <a:t>Access Technology-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devices that help a student access instructional materia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811080" indent="-35964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Can be used by all students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lvl="2" marL="1082160" indent="-18036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Alternate keyboar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1082160" indent="-18036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Color filters, software…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  <a:ea typeface="Arial"/>
              </a:rPr>
              <a:t>Adaptive Technology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-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devices which help an individual move about, communicate in or control their environment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811080" indent="-35964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Mostly used by student with disability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lvl="2" marL="1082160" indent="-18036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Devices(Communication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1082160" indent="-18036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Teletypewrite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17680" y="721800"/>
            <a:ext cx="859608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Assistive Technology Rang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The need for AT is determined on a </a:t>
            </a:r>
            <a:r>
              <a:rPr b="0" lang="en-US" sz="3200" spc="-1" strike="noStrike" u="sng">
                <a:solidFill>
                  <a:srgbClr val="080808"/>
                </a:solidFill>
                <a:uFillTx/>
                <a:latin typeface="Arial"/>
                <a:ea typeface="Arial"/>
              </a:rPr>
              <a:t>case by case basis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; and ensures access to a free and appropriate public education as determined by the IEP team</a:t>
            </a:r>
            <a:br>
              <a:rPr sz="2800"/>
            </a:b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54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A student may benefit from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540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Lite/Low Tech Solution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540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High Tech Solution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Lite/Low Tech Rang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0880" y="18288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Lite tech (LoTTIE Kit)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1056240" indent="-49572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asily accessible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1056240" indent="-49572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w cos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1056240" indent="-49572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d by Peer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1056240" indent="-495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ww.onionmountaintech.com (website for lite tech products)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443160" indent="-44316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Examples: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1056240" indent="-49572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Color filters, reading guide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1056240" indent="-49572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Electronic dictionarie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991720" cy="14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a3d7a"/>
                </a:solidFill>
                <a:latin typeface="Arial"/>
                <a:ea typeface="Arial"/>
              </a:rPr>
              <a:t>Assistive Technology Definition (AT)</a:t>
            </a:r>
            <a:endParaRPr b="0" lang="en-US" sz="4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Any item, piece of equipment or product system, whether acquired commercially off the shelf, modified, or customized, that is used to increase, maintain, or improve the function capabilities of a child with a disability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IDEA Section 602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High Tech Solution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6080" indent="-226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High Tech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834480" indent="-338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ery task specific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834480" indent="-338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igher cos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834480" indent="-338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metimes makes student feel “different” from peer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226080" indent="-226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Examples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834480" indent="-338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Computers, scanners, voice recognition software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834480" indent="-338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Individualized communication device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7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Assistive Technology Can Help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Reading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Writing(Motor)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Writing (Composing)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Math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Organizing/Studying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Computer Acces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Communication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Self Help/Daily Living Skill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837720"/>
            <a:ext cx="8596440" cy="140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Evaluation, Practice, Opportunities, and Review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AT should be evaluated in the child’s natural setting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Success of AT comes with daily opportunities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AT must be an integral part of the curriculum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The technology needs to be continually monitored for its effectiveness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3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Website Referenc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te Technology Solutions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ww.onionmountaintech.com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commodation – Student Needs &amp; Solutions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  <a:ea typeface="Arial"/>
              </a:rPr>
              <a:t>http://www.cpt.fsu.edu/ese/in/acom/needs/nslist.html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6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AT Basics and Legisl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80520" y="16765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Assistive Technology Basics</a:t>
            </a:r>
            <a:br>
              <a:rPr sz="2800"/>
            </a:b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http://www.aten.scps.k12.fl.us/resources.html</a:t>
            </a:r>
            <a:br>
              <a:rPr sz="2800"/>
            </a:b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http://www.gpat.org/Resources%20Main.htm</a:t>
            </a:r>
            <a:br>
              <a:rPr sz="2800"/>
            </a:b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http://atto.buffalo.edu/registered/ATBasics/Foundation/intro/index.php</a:t>
            </a:r>
            <a:br>
              <a:rPr sz="2800"/>
            </a:b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http://www.wati.org/index.htm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Legislation</a:t>
            </a:r>
            <a:br>
              <a:rPr sz="2800"/>
            </a:b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http://atto.buffalo.edu/registered/ATBasics/Foundation/Laws/atlegislation.php</a:t>
            </a:r>
            <a:br>
              <a:rPr sz="2800"/>
            </a:b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http://www.gpat.org/Resources%20Main.htm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9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Assistive Technology Servic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Any service that directly assists a child with a disability in the selection, acquisition, or use of an assistive technology device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17680" y="721800"/>
            <a:ext cx="859608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What this mean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Any tool or device that a student with a disability uses to do a task that he/she could not do otherwise without it. It can make the task easier, faster or done in a better way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43160" indent="-44316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For some students AT is the only to access the curriculum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43160" indent="-44316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The device can be “lite” tech such as a pencil grip or as expensive as a computer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Arial"/>
                <a:ea typeface="Arial"/>
              </a:rPr>
              <a:t>Assistive Technology is a tool. It will never replace good teaching. It serves to give struggling students and those with a disability a way to be successful with the curriculum.</a:t>
            </a:r>
            <a:endParaRPr b="0" lang="en-US" sz="4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5" name="Footer Placeholder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534520" cy="14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Who benefits from Assistive Tech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Any student with a disability from mild to severe.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38840" indent="-438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Any student with reading, writing, math, communications, vision, hearing, or motor problem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38840" indent="-438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ESOL student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38840" indent="-438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Students with 504 plan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38840" indent="-438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Struggling students who do not qualify for ESE service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08" name="Picture 4" descr="bd07223_"/>
          <p:cNvPicPr/>
          <p:nvPr/>
        </p:nvPicPr>
        <p:blipFill>
          <a:blip r:embed="rId1"/>
          <a:stretch/>
        </p:blipFill>
        <p:spPr>
          <a:xfrm>
            <a:off x="7086600" y="3200400"/>
            <a:ext cx="1819440" cy="1716120"/>
          </a:xfrm>
          <a:prstGeom prst="rect">
            <a:avLst/>
          </a:prstGeom>
          <a:ln w="0">
            <a:noFill/>
          </a:ln>
        </p:spPr>
      </p:pic>
      <p:sp>
        <p:nvSpPr>
          <p:cNvPr id="109" name="Footer Placeholder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Did you know the State of Florida allows a variety of assistive technology tools to be used on the FCAT by students with disabilities?</a:t>
            </a:r>
            <a:br>
              <a:rPr sz="3600"/>
            </a:b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914400" y="4114800"/>
            <a:ext cx="7391520" cy="1861560"/>
          </a:xfrm>
          <a:prstGeom prst="rect">
            <a:avLst/>
          </a:prstGeom>
          <a:noFill/>
          <a:ln w="41400">
            <a:solidFill>
              <a:srgbClr val="151f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*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These tools must be listed on the students IEP </a:t>
            </a:r>
            <a:r>
              <a:rPr b="1" lang="en-US" sz="3600" spc="-1" strike="noStrike" u="sng">
                <a:solidFill>
                  <a:srgbClr val="2a3d7a"/>
                </a:solidFill>
                <a:uFillTx/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used daily as part of instructional strategies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40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Legal Responsibilities for ES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The school district is mandated by state and federal law (IDEA) to determine if a student with a disability needs assistive technology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After an AT evaluation, the final determination of AT use is made jointly by the IEP Team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15" name="Picture 4" descr="bd04900_"/>
          <p:cNvPicPr/>
          <p:nvPr/>
        </p:nvPicPr>
        <p:blipFill>
          <a:blip r:embed="rId1"/>
          <a:stretch/>
        </p:blipFill>
        <p:spPr>
          <a:xfrm>
            <a:off x="7848720" y="5398920"/>
            <a:ext cx="1251000" cy="1459080"/>
          </a:xfrm>
          <a:prstGeom prst="rect">
            <a:avLst/>
          </a:prstGeom>
          <a:ln w="0">
            <a:noFill/>
          </a:ln>
        </p:spPr>
      </p:pic>
      <p:sp>
        <p:nvSpPr>
          <p:cNvPr id="116" name="Footer Placeholder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AT Legisl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100000"/>
              </a:lnSpc>
              <a:spcBef>
                <a:spcPts val="7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  <a:ea typeface="Arial"/>
              </a:rPr>
              <a:t>Tech Act (PL 100 407) Technology Related Assistance for Individuals with Disabilities Act</a:t>
            </a:r>
            <a:endParaRPr b="0" lang="en-US" sz="3000" spc="-1" strike="noStrike">
              <a:solidFill>
                <a:srgbClr val="080808"/>
              </a:solidFill>
              <a:latin typeface="Times New Roman"/>
            </a:endParaRPr>
          </a:p>
          <a:p>
            <a:pPr marL="443160" indent="-443160">
              <a:lnSpc>
                <a:spcPct val="100000"/>
              </a:lnSpc>
              <a:spcBef>
                <a:spcPts val="7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  <a:ea typeface="Arial"/>
              </a:rPr>
              <a:t>ADA (PL 101-336) Americans with Disabilities Act</a:t>
            </a:r>
            <a:endParaRPr b="0" lang="en-US" sz="3000" spc="-1" strike="noStrike">
              <a:solidFill>
                <a:srgbClr val="080808"/>
              </a:solidFill>
              <a:latin typeface="Times New Roman"/>
            </a:endParaRPr>
          </a:p>
          <a:p>
            <a:pPr marL="443160" indent="-443160">
              <a:lnSpc>
                <a:spcPct val="100000"/>
              </a:lnSpc>
              <a:spcBef>
                <a:spcPts val="7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  <a:ea typeface="Arial"/>
              </a:rPr>
              <a:t>IDEA-Individual with Disabilities Education Act</a:t>
            </a:r>
            <a:endParaRPr b="0" lang="en-US" sz="3000" spc="-1" strike="noStrike">
              <a:solidFill>
                <a:srgbClr val="080808"/>
              </a:solidFill>
              <a:latin typeface="Times New Roman"/>
            </a:endParaRPr>
          </a:p>
          <a:p>
            <a:pPr marL="44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080808"/>
                </a:solidFill>
                <a:latin typeface="Arial"/>
                <a:ea typeface="Arial"/>
              </a:rPr>
              <a:t>*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For more legislation Information click on the link below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ea typeface="Arial"/>
                <a:hlinkClick r:id="rId1"/>
              </a:rPr>
              <a:t>http://atto.buffalo.edu/registered/ATBasics/Foundation/Laws/atlegislation.php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3T19:48:03Z</dcterms:created>
  <dc:creator>lday</dc:creator>
  <dc:description/>
  <dc:language>en-US</dc:language>
  <cp:lastModifiedBy>lourdes.day</cp:lastModifiedBy>
  <dcterms:modified xsi:type="dcterms:W3CDTF">2008-06-11T21:00:13Z</dcterms:modified>
  <cp:revision>126</cp:revision>
  <dc:subject/>
  <dc:title>Assistive Technology</dc:title>
</cp:coreProperties>
</file>